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78B-2329-4D4C-AE44-666400CD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B03-03BA-4C2C-930C-0D168FB9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73E-D458-4B0D-B1D6-21D00BD4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B7B-DA6E-4D0C-A96B-303C06D7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9B5-FD61-4301-BE48-C8F99F4F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0B0-A044-4A42-9196-082BAF79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CE4-E6C9-431D-9D41-2D022F46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229-9E88-49EA-A936-EA45387A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BF3-81A5-4DAF-A9B0-25AC8918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E33-2741-40DC-900B-764EBF32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C33-B9EF-4587-8111-71AF7F36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A61-B6FB-4E7A-A05C-86EC31A9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EBA4-146B-4654-B1DB-62C3B0E6E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566720" y="341280"/>
            <a:ext cx="6102360" cy="347508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1103400" y="4791240"/>
            <a:ext cx="69069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1060560" y="146160"/>
            <a:ext cx="6645240" cy="1328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14400" y="1905120"/>
            <a:ext cx="6781680" cy="32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m of the money values of all final goods and services produced within a nations boarders during a specific period (Usually one yea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measure of a nations well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Stag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ation that occurs while the economy is growing slowing (stagnating) or in a rec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1974960" y="122400"/>
            <a:ext cx="4663800" cy="1328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533520" y="1676520"/>
            <a:ext cx="74674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Shift in AD curve and effects 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ggregate Demand Curve- the quantity of domestic product that is demanded at each possible value of the pric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- Demand curve shifts right, price levels go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- Demand curve shifts left, price level goes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Keynesian or stabilization to fight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fight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need a policy to reduce AD b/c once the demand goes down price levels will go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v’t becomes less involved and lowers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1060560" y="165240"/>
            <a:ext cx="6645240" cy="12128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838080" y="144792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Steep vs. Flat AS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en AD shifts on it there will be a much smaller increase in EGDP than if there were a flat AS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1"/>
          <p:cNvGrpSpPr/>
          <p:nvPr/>
        </p:nvGrpSpPr>
        <p:grpSpPr>
          <a:xfrm>
            <a:off x="988920" y="3200400"/>
            <a:ext cx="2973600" cy="2744640"/>
            <a:chOff x="988920" y="3200400"/>
            <a:chExt cx="2973600" cy="2744640"/>
          </a:xfrm>
        </p:grpSpPr>
        <p:sp>
          <p:nvSpPr>
            <p:cNvPr id="50" name="Straight Connector 6"/>
            <p:cNvSpPr/>
            <p:nvPr/>
          </p:nvSpPr>
          <p:spPr>
            <a:xfrm flipH="1">
              <a:off x="988920" y="3200400"/>
              <a:ext cx="144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raight Connector 7"/>
            <p:cNvSpPr/>
            <p:nvPr/>
          </p:nvSpPr>
          <p:spPr>
            <a:xfrm flipH="1" flipV="1">
              <a:off x="990360" y="5943600"/>
              <a:ext cx="2972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22"/>
          <p:cNvGrpSpPr/>
          <p:nvPr/>
        </p:nvGrpSpPr>
        <p:grpSpPr>
          <a:xfrm>
            <a:off x="4876920" y="3276720"/>
            <a:ext cx="2972880" cy="2744640"/>
            <a:chOff x="4876920" y="3276720"/>
            <a:chExt cx="2972880" cy="2744640"/>
          </a:xfrm>
        </p:grpSpPr>
        <p:sp>
          <p:nvSpPr>
            <p:cNvPr id="53" name="Straight Connector 23"/>
            <p:cNvSpPr/>
            <p:nvPr/>
          </p:nvSpPr>
          <p:spPr>
            <a:xfrm flipH="1">
              <a:off x="4876920" y="3276720"/>
              <a:ext cx="144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4"/>
            <p:cNvSpPr/>
            <p:nvPr/>
          </p:nvSpPr>
          <p:spPr>
            <a:xfrm flipH="1" flipV="1">
              <a:off x="4878000" y="6019920"/>
              <a:ext cx="29718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Straight Connector 26"/>
          <p:cNvSpPr/>
          <p:nvPr/>
        </p:nvSpPr>
        <p:spPr>
          <a:xfrm flipV="1">
            <a:off x="1295280" y="5181120"/>
            <a:ext cx="2667240" cy="22860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8"/>
          <p:cNvSpPr/>
          <p:nvPr/>
        </p:nvSpPr>
        <p:spPr>
          <a:xfrm flipV="1">
            <a:off x="6552360" y="3200040"/>
            <a:ext cx="304920" cy="251460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30"/>
          <p:cNvSpPr/>
          <p:nvPr/>
        </p:nvSpPr>
        <p:spPr>
          <a:xfrm>
            <a:off x="1676520" y="5105520"/>
            <a:ext cx="838080" cy="457200"/>
          </a:xfrm>
          <a:prstGeom prst="line">
            <a:avLst/>
          </a:prstGeom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32"/>
          <p:cNvSpPr/>
          <p:nvPr/>
        </p:nvSpPr>
        <p:spPr>
          <a:xfrm>
            <a:off x="2438280" y="5105520"/>
            <a:ext cx="762120" cy="457200"/>
          </a:xfrm>
          <a:prstGeom prst="line">
            <a:avLst/>
          </a:prstGeom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36"/>
          <p:cNvSpPr/>
          <p:nvPr/>
        </p:nvSpPr>
        <p:spPr>
          <a:xfrm>
            <a:off x="6172200" y="4114800"/>
            <a:ext cx="533520" cy="1143000"/>
          </a:xfrm>
          <a:prstGeom prst="line">
            <a:avLst/>
          </a:prstGeom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38"/>
          <p:cNvSpPr/>
          <p:nvPr/>
        </p:nvSpPr>
        <p:spPr>
          <a:xfrm>
            <a:off x="6629400" y="3886200"/>
            <a:ext cx="533520" cy="1219320"/>
          </a:xfrm>
          <a:prstGeom prst="line">
            <a:avLst/>
          </a:prstGeom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40"/>
          <p:cNvCxnSpPr/>
          <p:nvPr/>
        </p:nvCxnSpPr>
        <p:spPr>
          <a:xfrm>
            <a:off x="2361960" y="5486400"/>
            <a:ext cx="6102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" name="Straight Arrow Connector 42"/>
          <p:cNvCxnSpPr/>
          <p:nvPr/>
        </p:nvCxnSpPr>
        <p:spPr>
          <a:xfrm>
            <a:off x="6629400" y="5029200"/>
            <a:ext cx="457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3" name="TextBox 43"/>
          <p:cNvSpPr/>
          <p:nvPr/>
        </p:nvSpPr>
        <p:spPr>
          <a:xfrm>
            <a:off x="1600200" y="304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lat AS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4"/>
          <p:cNvSpPr/>
          <p:nvPr/>
        </p:nvSpPr>
        <p:spPr>
          <a:xfrm>
            <a:off x="5257800" y="304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eep AS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5"/>
          <p:cNvSpPr/>
          <p:nvPr/>
        </p:nvSpPr>
        <p:spPr>
          <a:xfrm>
            <a:off x="396252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6"/>
          <p:cNvSpPr/>
          <p:nvPr/>
        </p:nvSpPr>
        <p:spPr>
          <a:xfrm>
            <a:off x="68580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3" descr=""/>
          <p:cNvPicPr/>
          <p:nvPr/>
        </p:nvPicPr>
        <p:blipFill>
          <a:blip r:embed="rId1"/>
          <a:stretch/>
        </p:blipFill>
        <p:spPr>
          <a:xfrm>
            <a:off x="2614680" y="165240"/>
            <a:ext cx="4103640" cy="121284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4" descr=""/>
          <p:cNvPicPr/>
          <p:nvPr/>
        </p:nvPicPr>
        <p:blipFill>
          <a:blip r:embed="rId2"/>
          <a:stretch/>
        </p:blipFill>
        <p:spPr>
          <a:xfrm>
            <a:off x="-6480" y="1395360"/>
            <a:ext cx="6828120" cy="20606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6" descr=""/>
          <p:cNvPicPr/>
          <p:nvPr/>
        </p:nvPicPr>
        <p:blipFill>
          <a:blip r:embed="rId3"/>
          <a:stretch/>
        </p:blipFill>
        <p:spPr>
          <a:xfrm>
            <a:off x="6242040" y="2462040"/>
            <a:ext cx="2225520" cy="79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457200" y="3048120"/>
            <a:ext cx="678168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GDP deflator is considered the better overall measure of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derive Real GDP from Nominal 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Real GDP   =    </a:t>
            </a:r>
            <a:r>
              <a:rPr b="0" lang="en-US" sz="1800" spc="-1" strike="noStrike" u="sng">
                <a:solidFill>
                  <a:srgbClr val="66ff33"/>
                </a:solidFill>
                <a:uFillTx/>
                <a:latin typeface="Calibri"/>
              </a:rPr>
              <a:t>Nominal  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66ff33"/>
                </a:solidFill>
                <a:latin typeface="Calibri"/>
              </a:rPr>
              <a:t>GDP Def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extBox 8" descr=""/>
          <p:cNvPicPr/>
          <p:nvPr/>
        </p:nvPicPr>
        <p:blipFill>
          <a:blip r:embed="rId4"/>
          <a:stretch/>
        </p:blipFill>
        <p:spPr>
          <a:xfrm>
            <a:off x="2889360" y="4767120"/>
            <a:ext cx="12682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2614680" y="165240"/>
            <a:ext cx="4103640" cy="1212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533520" y="1752480"/>
            <a:ext cx="74674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Wage Trend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s price levels went up, wages increased and vis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-Wages are always higher than pric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Calibri"/>
              </a:rPr>
              <a:t>Potential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real GDP that the economy would produce if its labor and other resources were fully em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08:40Z</dcterms:created>
  <dc:creator>Sth_User</dc:creator>
  <dc:description/>
  <dc:language>en-US</dc:language>
  <cp:lastModifiedBy>HP Authorized Customer</cp:lastModifiedBy>
  <dcterms:modified xsi:type="dcterms:W3CDTF">2009-01-27T22:23:13Z</dcterms:modified>
  <cp:revision>7</cp:revision>
  <dc:subject/>
  <dc:title>Slide 1</dc:title>
</cp:coreProperties>
</file>